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5C4-C3DC-444E-B25A-A24F0899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1A1-06D8-42F0-9F04-4C648D6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31F-F426-422D-99D4-B888B68D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17A-45A9-4F69-A29C-A56A1C78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9BD53-BB50-48FD-BC1C-38B9FA52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3271-E4D0-4437-84A1-1E5DA03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3EDE6-6109-428D-AB95-BE00B9D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C74F7-21DF-4898-A63F-5192E46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09C4-F7E8-4760-AB44-A0B0B320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898C-6152-41FD-95A2-566ECBB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CEBB4-5753-46C2-A763-64135B5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578-0622-4C05-A2CD-3375DE11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3103-27C5-4604-9EFA-D08F9E1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BBA45-0EC4-436E-B83B-D3D7B5D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27155-EE17-45F6-8946-5EE1F0D7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B4F89-D1C5-4B62-A2E4-CDF48A87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C722A-FD64-4F53-99F2-BCF050C6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858-C34E-4C0D-9F1E-99E1FE83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C3E-5416-4E15-A475-A6394B8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D8F-D0C8-4FAC-8A88-71EF22C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F57-53AF-43FE-9DE9-CDE878B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90D-C4E9-43A2-AD34-54B5F00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C8D-6A07-4889-876C-528A1D2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C81-45FB-42E0-8900-0069E7C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E03-E991-474F-A8C3-2FB2E3260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4944-49CB-4A80-8D0B-147C6D410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Oliver Mochmann</cp:lastModifiedBy>
  <dcterms:modified xsi:type="dcterms:W3CDTF">2009-11-17T20:54:29Z</dcterms:modified>
  <cp:revision>17</cp:revision>
  <dc:subject/>
  <dc:title>Folie 1</dc:title>
</cp:coreProperties>
</file>